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7AC-AB49-473F-A32D-756416BC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073-7C18-4F35-8F72-E98844F4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5BAF-2FA0-48AA-BF00-537DE63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24803-F961-44AC-9139-7B6F5C8F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2411D-052B-466D-8C98-6FEDEBB2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39FE5-CBF7-4B91-8749-971A5902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7925D-B661-43DA-BAC8-2BF5F36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48FE7-99A5-431C-9CDA-6E7E64E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BAFB5-0F0D-4129-9A06-897ECD02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BD534-9488-4066-B3CE-C6D996B0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65831-7DE2-4D3D-9F51-F0CFD980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7FD4B-152D-4A4B-9A3F-05494F57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CB1-04D3-4E42-BA69-EE54AE16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C056A-BBFE-4831-BDE4-6BD26942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98D6B-7070-4723-8007-97F1B9F6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551B8-3F0F-47C0-AC61-BBC8848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1DB04-2479-40AC-AA96-7B165C4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A358B-CC48-4808-AA29-C7B69A1F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229C9-F78B-41AC-92B3-A6EB2A1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95203-A214-4A61-BC77-A5E80DE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65913-759E-4290-999D-2A51C5F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BB38E-59D5-4660-A284-6E0857CA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05B07-F3D9-4736-A29F-B5E7ADF5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A27-1117-44DD-8249-E9E811CE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425BC-0EAC-4BA5-85F8-1A083C8B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CFD0F-2169-4B22-B556-B8A62815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6E873-EE00-4F9C-81A0-23AC10BE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47D60-9542-4906-B239-58DCEFCB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B0D92-0BEE-41ED-82E0-5C4A668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15816-CCDA-4C4D-B39A-D405768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45139-67C1-4E13-94E8-54C74C02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D559B-399B-47A6-A7E4-0F953498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0D89D-6C86-4073-B944-F05CC6E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865FA-7022-416F-BAA4-BAF3472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944B-C6C6-417F-AFB8-088F329F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BF3FF-2867-43C8-8AB7-20B0490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4354F-06F9-4746-8B4C-E0C722D9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802A2-33C7-4620-9F55-2F9D5F1D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2CDEE-C288-4BF3-9C58-F287BAFE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93135-D71F-4004-8731-5F52E5A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17491-AE0B-4F11-950A-4D8495C9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A3AB5-9549-4FB0-8F1A-36354C6D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529DD-388A-4FD0-8866-2FAB05AE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817ED-B65B-4F6D-9D36-9BF56380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C86E6-73FD-46F2-AB50-5381370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0AF8-F2A8-44D9-8C5C-9A84D1D5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E8E1C-572F-4F22-9274-51DC226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D2033-B7B7-4E3C-B18D-620B466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7FEA9-392A-4F2D-8293-FACF2F54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0315C-8F1A-43B3-AD61-979CC081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16759-F8D1-498C-88A7-4049C264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C7302-ED31-42CE-B42A-828083BF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95969-8EF7-44A1-ADC6-5EB0CDC7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DC0B7-AB47-4037-ADE6-9386AE53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6F42F-FCDD-423A-B83C-9B788B68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E7CCD-4EE3-4FA1-AB3C-A385D65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511E-D601-444E-B723-2F031E08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9B217-50E1-4F18-B73D-FBADFB4F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9036E-C121-4F62-9ABE-C747E39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27FD8-2C45-4A77-9014-334EC11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C5C1E-AA2F-4C20-9A9D-31E3AE2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34BD6-1364-42BB-A2E9-B3DB670F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7C091-FE1A-4FCD-BF73-FC53D54F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092C2-C34F-4499-BEF5-64F8FBF4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2EA77-0F78-489B-9948-9BBB01D0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457CC-6BEA-43C3-B2AB-DD8AF8E2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ECDF8-4FBF-451E-A6DC-B2702EDB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01BF-07DD-45B8-8717-F2515417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5CDE3-F6F9-4540-92E7-EC7F553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6CC6B-A088-4D48-9AAD-971179BF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B182F-0ABF-43CA-B7DD-A875A78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29A1B-00A9-4308-92C8-BE0BA02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63DE9-5070-400C-A447-DFF3DB3D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6AD34-6173-4FB1-8321-E3FF3B2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60E06-C3A9-4289-8707-2D2FCD88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F031E-6729-4D01-B1C1-CF50D8AD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92691-44D1-4E32-A8E1-EA9607EC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D88DE-DDF9-4617-9A4B-58E9EEE7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B913-389E-4280-BF9E-9F1EAA36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4A500-0062-4905-BCC9-AFAA5C34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D3E4D-693A-4690-B517-BF478AB4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E8434-2590-4D28-BC9B-E420BBAB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4092A-29A8-4372-8A02-9E49C6D7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9A110-CE74-4B1F-B1DE-ADE17854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BDD8D-FBF4-4373-88BA-5199B5B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879ED-F9A4-4E4C-BB4D-C99DD0E0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E6EC4-EC0C-49E7-B723-4B40A43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E70B1-605C-4EB3-8928-915FEA4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E3950-05EE-427C-9A3F-DA7912B6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9D47-DFF4-4028-AAD7-DE80DF10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8FAE4-58C1-4138-A7A7-29BB0853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E4E09-D3E0-4FB7-B13B-86FE14B3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A64BF-70EC-4594-9FD1-6E23D6CC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E4AC9-22F1-4450-9737-996C7B50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499AB-5412-4308-A572-A4A64CB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B541D-D94A-42A8-8BB8-A7594CB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B125F-3510-4C0F-A371-30D27739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3E8DA-4216-4C9C-93A5-465F90F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6A7D7-D105-4BD5-B58F-47CEAD0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73390-71CE-4389-994B-73F2EC22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363D-43C8-4F99-8448-9093AE5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D0C43-AAB4-442C-8324-268D9B93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1101D-BABB-4CAF-8E95-C1CCE0BA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DBF18-9621-4CF7-BB62-EE7749F2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C4DD8-09ED-459A-B958-7C348A60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3FB0A-388D-45D6-A152-8B531444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8EB06-2C4A-44E4-878D-92D18714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8D0F0-A108-401A-BBC3-FDE810EE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21C14-E5E7-43E2-9CDF-DFCECB7E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982EE-C790-42F6-BF4D-6C0EDD8E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8923B-B8D8-42F5-AD31-61E25A73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50A-BC92-4AA4-9EA1-5370914F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F6DA-66BE-41A3-95B4-48F00886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7AAD2-8AC5-4B6F-8537-494E6CA6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88D89-1169-49C4-95F3-281A19F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74B5E-94F9-4D1D-AC58-43D6A059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9C392-0490-40A3-9C04-7814F596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58C68-FAE5-4401-AAC8-05154FDE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93D7E-DCF4-49D3-B322-CB7B8D14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26960-1D81-48A3-9A60-DBBA7F9E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061D1-8DB2-400D-ACB9-639F6C0C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8A3CA-D017-46F2-A2FA-3AEB8EBE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5605C-E9DC-4725-94DB-A3511BF5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62E2-C0DC-4AFB-869C-2DF8C6A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2BAEB-4E9D-4CB5-B7B4-C4AC690C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9D857-DB50-4CFF-8915-AE60BCE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420D4-3CE5-4301-82B1-B267D30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91364-6659-45F9-B380-A80E43F4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BDD25-A2ED-4024-85FC-17232AA6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23944-2C2E-4E41-ABA3-315CAF67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06A94-76F4-4639-A911-B9DD5B93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488EA-5372-4127-9DB4-4E3E7B3C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DFE2E-4408-42B7-8D47-46C57982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57F0C-8ED2-417C-BCD7-6F013D2C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E89D-94EF-441F-A37F-AD863529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2E463-2CF6-42F3-9945-21D9394E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20DEE-1513-4B8A-B2FD-8D8585FD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A7F21-6D77-42BA-9F72-30F78595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E6C8A-C55B-44B4-9DF0-D0B12DB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7DFE5-DC7B-40BC-B7DC-575C3B6B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6F457-D7C6-412A-B864-0871E004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52E0D3-966C-4C7F-A2F4-68E698B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376BF-DA73-4B5B-84E8-41ADB0F2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A695A-8A5F-4126-97B5-2C24DF70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22E08-1398-481B-8ADA-0FF544C5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C57D-9D9D-41CB-B049-2263C9CC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21BF3-5B0C-41CC-940A-A90D3E8B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615B6-6C53-43D3-B707-F846FBE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3E7B8-6FDF-4F3F-ADDA-3BA28E33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279C94-BC91-44E9-81CA-FC0D8C63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3511F-873A-4136-AA44-73E30DD6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267C6-826B-4386-9A14-68CE0901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C10016-997A-459F-999F-243BFC6C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EB17E-1318-43A3-9E9B-6FB30BD8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2CDCF-3904-4CF5-A648-5E66DDC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C696F-CCF6-43AB-8AC4-F71D7797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F846-4CFF-4431-90DC-D27138BA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DC908-54DB-470D-844F-9BD74DE4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1918DA-8D9B-46C8-A2FC-24315EEB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699688-98F3-4378-84CA-D0855E1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EED13-3AD0-4C97-96F8-1C3F94DE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740EA-66A3-4956-A060-8304A309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DE934-4282-4070-8FC4-385B8CD9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5B5A7C-E09D-4083-ADFA-3A04387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BEA6F-767B-49DD-9292-E9F9DA9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71BD5-D6B6-4372-8FE4-295B3F8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27608-5363-45F0-8318-6E9895A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B534-EF6C-4010-A8A3-CA494DCC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33415B-EC98-4A40-B2A9-769BAB0F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58E5E-9973-44C6-A420-40F64C4E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22E484-FE0B-428D-A28D-7105BB31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79124-475F-4262-AF42-B2DEF456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C2DF-4EC2-42F0-968E-33DF05FB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42AB-2D9F-44EB-A9D0-A3A5383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43BE-6868-454F-A6E6-A014AAC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7F6-D9A0-4292-A5C8-F62BFA12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7657-4B55-457B-9A6E-94D5FA27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654E-BBFE-46A4-96A6-E62E9A5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E6DF-5FEB-4312-AA5F-52B3C702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35A7-3D2A-4510-95B4-C2CE337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0061-351E-4610-BA33-93C58F64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D7E1-7386-4880-8897-A1A81A4E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162A-7254-46C9-9F3A-EE9E44CC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30AD-F2E7-4D0F-96E4-A81D389D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43E2-3769-4711-9D1A-623E7681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A2BAA-FB74-4292-A106-8AACD21F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7BD-47BB-40E6-8EB8-5DA76A06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5241-70FC-465C-AA1B-017421A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D386-F8EE-4594-964C-E3E1ADE0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BDB6-960C-4F56-ABAB-D0F610FA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83FB-4CE9-4E3B-A4D4-E1265DA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F219-2E58-43E2-993E-3B110D49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5F911-67B9-4E2B-A23D-1862286E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9AE86-1910-47C1-BEA4-6154DDDF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5C5C-0F67-4C81-B2C3-C34E36D6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BAE9-84BC-4A91-B7A3-C59C706B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859F-5AB8-4E8D-84C6-4723722C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403-48DA-4141-AB9E-6A3C2E8D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9B35-E43A-4CAA-851B-D0B2AE2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BB0B-8019-4C92-AB8A-1659EA23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BE65-6276-4BCF-AA8E-63C28F10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9005-A76F-4EB8-BFF4-7F11ADA8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0F6D-09DD-4AFD-BAFF-C1477005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6E38-369A-4F5C-861C-27E2D7D9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3479-F91A-478A-B3AE-65FE123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F7459-9144-471F-84BB-B7CCDCEF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2C6D-F343-4D62-B2FC-72CCB31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550A-5E41-4AE5-BECB-ABE551AB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867-039E-41F7-9319-FF22F5FA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5D954-CF8C-4E1F-AB91-509D63CA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99646-3EB1-4101-AF51-BCC40B7D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68EA-AA49-4753-8EF3-075CE14B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37053-6913-487D-AE33-F7F738C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E9D7-6036-4884-B75A-C989A52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9246E-5619-43B3-83EC-8EBB5AFC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1544-65B2-4A62-827C-4108363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3674F-0D5C-47CD-9431-12E1A0B8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671E7-59EA-4955-BA78-7A7F1B9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12744-6EEC-4A52-819A-35AA617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C1C-C1DA-4C7F-B21E-BD4C1EA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889D-D739-4CA2-B86A-46924C39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935D5-48A5-4110-B547-2FECAB45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F0ED-4655-4667-B567-30287C44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D5EAC-BF94-4651-8CC5-7A432B40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52FE4-65EB-4761-95EC-1A60FF55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41131-10AF-4DB9-8045-6E794C6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3747-CB55-4AEC-AD78-CFE3B2D2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31DA-6977-4F5D-8902-2FC3B734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AC25-753A-45FC-B63A-83287E77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DEEB-A87D-4915-B0C8-3E4078D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2CF-2B50-40F8-81AA-24CC503C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E2E67-2847-465E-A654-E68634E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C8E74-7095-4F88-9958-B48BC2B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312ED-54F7-4749-A07C-B7973981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0936B-2DD7-499C-BBA4-8EFA39DC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D26B6-2167-4320-9029-0D4AC868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4F156-40FE-4B97-BA55-341E746D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640E2-E781-4A1F-99D8-B9439F91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7D4F9-4958-4A43-AD94-727CC38D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E3163-E29A-4C75-A111-F4F434FF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D38BB-4BCB-4F4D-9D0C-9798E890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239-DEB1-427A-8C5A-F3081FFE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2B3EF-A892-44B9-88B5-2A971AA8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2377C-8E6E-4D37-AFA7-58C1686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6E18-612B-4655-8E32-CC20EB1E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5B2AD-22FA-4DAC-890D-47AD73A3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11619-7433-4F7D-9500-F643D000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4C7F3-7629-4297-A03F-4BD2C3AF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E76D2-5044-4394-ABF3-9617C91C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96305-8E02-47FA-8B1D-0E136AFA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7F426-02DC-4711-8D7A-28CD2B5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878B4-71D1-47D3-8A5B-DDB2DA48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9D8-155E-4264-87FA-EC4AA2C3D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3B18-D3E4-49CE-8928-71F6F46EC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B04B-BA89-45B7-AA92-A1F6D5C43F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DB8-C1F9-4F97-9073-44BBB1E5D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4787-1C85-4749-9EF0-53477D13D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A979-5FC4-46A4-B8C6-B4C884A5AB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3C08-DF6F-4D22-9095-0C7F2D8A3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34E3-D642-4CBE-9727-B858F98B66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43A4-8217-4942-9E78-15B07ECC72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98AE-68A0-4FC8-8FC2-43F19057B7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75CD-C087-4D44-9B24-A617315F1D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CE2E-0570-4241-B470-E64980FBB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A870-7986-4EF0-8BB3-3EE929E8EC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CA3F-541B-48D0-AE77-E6994FC7B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522-E8C8-440D-A219-A4171B5BC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E19D-F4CF-458A-8657-AD5F74CD0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FB70-0C70-4823-AE43-FFBA35A98F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2E87-D99A-4D6F-A305-03262B0039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2024-3B6E-4853-9546-FB0B621DD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2CD7-7273-45B4-B9C1-5800916168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8A31-093D-4F1A-B709-975705FFEF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6315-A95B-4A08-8C73-19F22083D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491D-A9FC-4106-92F6-D9EDFADE3A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EE1E-522D-4065-9512-D0F9E87DE5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7F35-C945-490C-B3B0-8F9FFC550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D959-3D49-44A4-B401-CC17A2155B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BB6-C489-481A-826E-1E980A88B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CD3A-3B0E-4A5B-87DA-C9E4A4D34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8E89-3953-436E-9A8E-F313F80602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ACD4-7266-499C-919B-CD67B922DA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F39C-57DB-481A-8268-B8FB670B2F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CD1-3266-4203-B88D-E3623688E4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EE4F-B7E0-4440-98AC-6B523A5B37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0A74-9189-4373-B686-123FD1A14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79B0-D2C7-4CE4-9290-BDAEBFBEE1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1C69-A583-43DD-B55F-43C07ADB5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2747-6A0E-4DFB-B486-BBA777D0C1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D76-4CC9-4715-815B-9E1A5361E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6F6F-D084-4B1F-A840-A5197D775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B990-1238-403D-BB8D-51FF1E48E9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378080" y="3252960"/>
            <a:ext cx="547992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471600" y="928800"/>
            <a:ext cx="8200800" cy="5572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1643040" y="2000160"/>
            <a:ext cx="7134120" cy="571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6643800" y="3143160"/>
            <a:ext cx="301680" cy="276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6643800" y="3957480"/>
            <a:ext cx="301680" cy="2746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5214960" y="4883040"/>
            <a:ext cx="301680" cy="276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5" descr=""/>
          <p:cNvPicPr/>
          <p:nvPr/>
        </p:nvPicPr>
        <p:blipFill>
          <a:blip r:embed="rId6"/>
          <a:stretch/>
        </p:blipFill>
        <p:spPr>
          <a:xfrm>
            <a:off x="2357280" y="5357880"/>
            <a:ext cx="676440" cy="533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"/>
          <p:cNvPicPr/>
          <p:nvPr/>
        </p:nvPicPr>
        <p:blipFill>
          <a:blip r:embed="rId7"/>
          <a:stretch/>
        </p:blipFill>
        <p:spPr>
          <a:xfrm>
            <a:off x="3303720" y="4732200"/>
            <a:ext cx="742680" cy="552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5214960" y="550080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7" descr=""/>
          <p:cNvPicPr/>
          <p:nvPr/>
        </p:nvPicPr>
        <p:blipFill>
          <a:blip r:embed="rId9"/>
          <a:stretch/>
        </p:blipFill>
        <p:spPr>
          <a:xfrm>
            <a:off x="2857680" y="5937120"/>
            <a:ext cx="799920" cy="600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5214960" y="6097680"/>
            <a:ext cx="30168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"/>
          <p:cNvPicPr/>
          <p:nvPr/>
        </p:nvPicPr>
        <p:blipFill>
          <a:blip r:embed="rId1"/>
          <a:stretch/>
        </p:blipFill>
        <p:spPr>
          <a:xfrm>
            <a:off x="128520" y="1400040"/>
            <a:ext cx="8886960" cy="44578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3" descr=""/>
          <p:cNvPicPr/>
          <p:nvPr/>
        </p:nvPicPr>
        <p:blipFill>
          <a:blip r:embed="rId2"/>
          <a:stretch/>
        </p:blipFill>
        <p:spPr>
          <a:xfrm>
            <a:off x="7572240" y="4143240"/>
            <a:ext cx="1571760" cy="2000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3"/>
          <a:stretch/>
        </p:blipFill>
        <p:spPr>
          <a:xfrm>
            <a:off x="2000160" y="37861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4"/>
          <a:stretch/>
        </p:blipFill>
        <p:spPr>
          <a:xfrm>
            <a:off x="4143240" y="3000240"/>
            <a:ext cx="301680" cy="276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5"/>
          <a:stretch/>
        </p:blipFill>
        <p:spPr>
          <a:xfrm>
            <a:off x="5556240" y="33829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6"/>
          <a:stretch/>
        </p:blipFill>
        <p:spPr>
          <a:xfrm>
            <a:off x="5546880" y="3786120"/>
            <a:ext cx="301320" cy="276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7"/>
          <a:stretch/>
        </p:blipFill>
        <p:spPr>
          <a:xfrm>
            <a:off x="7715160" y="337500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8"/>
          <a:stretch/>
        </p:blipFill>
        <p:spPr>
          <a:xfrm>
            <a:off x="7723080" y="378612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9"/>
          <a:stretch/>
        </p:blipFill>
        <p:spPr>
          <a:xfrm>
            <a:off x="2332080" y="46609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10"/>
          <a:stretch/>
        </p:blipFill>
        <p:spPr>
          <a:xfrm>
            <a:off x="2314440" y="5035680"/>
            <a:ext cx="301680" cy="274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11"/>
          <a:stretch/>
        </p:blipFill>
        <p:spPr>
          <a:xfrm>
            <a:off x="642960" y="550080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12"/>
          <a:stretch/>
        </p:blipFill>
        <p:spPr>
          <a:xfrm>
            <a:off x="1285920" y="551016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13"/>
          <a:stretch/>
        </p:blipFill>
        <p:spPr>
          <a:xfrm>
            <a:off x="1940040" y="551016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14"/>
          <a:stretch/>
        </p:blipFill>
        <p:spPr>
          <a:xfrm>
            <a:off x="2589120" y="551016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15"/>
          <a:stretch/>
        </p:blipFill>
        <p:spPr>
          <a:xfrm>
            <a:off x="3413160" y="5483160"/>
            <a:ext cx="301680" cy="2746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16"/>
          <a:stretch/>
        </p:blipFill>
        <p:spPr>
          <a:xfrm>
            <a:off x="6786720" y="4643280"/>
            <a:ext cx="301320" cy="276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17"/>
          <a:stretch/>
        </p:blipFill>
        <p:spPr>
          <a:xfrm>
            <a:off x="6715080" y="5035680"/>
            <a:ext cx="301680" cy="274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18"/>
          <a:stretch/>
        </p:blipFill>
        <p:spPr>
          <a:xfrm>
            <a:off x="6715080" y="5500800"/>
            <a:ext cx="30168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1" descr=""/>
          <p:cNvPicPr/>
          <p:nvPr/>
        </p:nvPicPr>
        <p:blipFill>
          <a:blip r:embed="rId1"/>
          <a:stretch/>
        </p:blipFill>
        <p:spPr>
          <a:xfrm>
            <a:off x="957240" y="2386080"/>
            <a:ext cx="7229520" cy="22572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2" descr=""/>
          <p:cNvPicPr/>
          <p:nvPr/>
        </p:nvPicPr>
        <p:blipFill>
          <a:blip r:embed="rId2"/>
          <a:stretch/>
        </p:blipFill>
        <p:spPr>
          <a:xfrm>
            <a:off x="7286760" y="3143160"/>
            <a:ext cx="1057320" cy="1214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3"/>
          <a:stretch/>
        </p:blipFill>
        <p:spPr>
          <a:xfrm>
            <a:off x="3214800" y="3197160"/>
            <a:ext cx="1438200" cy="1447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4"/>
          <a:stretch/>
        </p:blipFill>
        <p:spPr>
          <a:xfrm>
            <a:off x="5143680" y="3786120"/>
            <a:ext cx="19285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1" descr=""/>
          <p:cNvPicPr/>
          <p:nvPr/>
        </p:nvPicPr>
        <p:blipFill>
          <a:blip r:embed="rId1"/>
          <a:stretch/>
        </p:blipFill>
        <p:spPr>
          <a:xfrm>
            <a:off x="3867120" y="2052720"/>
            <a:ext cx="1409760" cy="4162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2"/>
          <a:stretch/>
        </p:blipFill>
        <p:spPr>
          <a:xfrm>
            <a:off x="4778280" y="28116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3"/>
          <a:stretch/>
        </p:blipFill>
        <p:spPr>
          <a:xfrm>
            <a:off x="4761000" y="3201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4"/>
          <a:stretch/>
        </p:blipFill>
        <p:spPr>
          <a:xfrm>
            <a:off x="4768920" y="36133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5"/>
          <a:stretch/>
        </p:blipFill>
        <p:spPr>
          <a:xfrm>
            <a:off x="4768920" y="40417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6"/>
          <a:stretch/>
        </p:blipFill>
        <p:spPr>
          <a:xfrm>
            <a:off x="4840200" y="44546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"/>
          <p:cNvPicPr/>
          <p:nvPr/>
        </p:nvPicPr>
        <p:blipFill>
          <a:blip r:embed="rId7"/>
          <a:stretch/>
        </p:blipFill>
        <p:spPr>
          <a:xfrm>
            <a:off x="4768920" y="4883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"/>
          <p:cNvPicPr/>
          <p:nvPr/>
        </p:nvPicPr>
        <p:blipFill>
          <a:blip r:embed="rId8"/>
          <a:stretch/>
        </p:blipFill>
        <p:spPr>
          <a:xfrm>
            <a:off x="4840200" y="52563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"/>
          <p:cNvPicPr/>
          <p:nvPr/>
        </p:nvPicPr>
        <p:blipFill>
          <a:blip r:embed="rId9"/>
          <a:stretch/>
        </p:blipFill>
        <p:spPr>
          <a:xfrm>
            <a:off x="4862520" y="568476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27:4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